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25A-DF1C-49CA-916D-877AA923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7B5-BDEF-462E-957F-55F33703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F730-5283-4890-961C-A2D3915C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40D-9489-4567-9931-A3ADAE27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C1F1B-B81D-48F0-B430-81FDF173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B2E3E-C366-466A-8FA8-04B1C68F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4CFF9-CBD0-4EA0-A3A4-032C6B50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5A74A-76EA-48ED-A5AC-2EF5758A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31616-5B98-4933-8821-86D90147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3D553-50B5-4FFD-949C-73128D3C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3D2E1-71D7-43BD-B6EE-C8F9F52D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3A3-081C-481C-86BB-11435C3B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DCE85-231E-487A-8DD8-1A954C19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A601B-236E-4C04-89AD-78E7EA75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70F5D-F5C9-48A7-B3CF-8CF5E031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B11C8-6052-496B-BDC0-B7CE2A65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20D57-EECF-4638-8C8A-DE8F4C91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21BB5-DD7C-4E2B-9953-45A0A346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1EAF7-0543-44E4-9AD3-139C73D2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A736B-509F-480D-8B09-F54321DD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03F72-C531-4A84-BC09-CEE81CFB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C574B-7A3E-4D2E-B15B-EE38F7D6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4B2E-3044-4246-8176-F83029DE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28FD-39CF-4EAB-AF3D-A3860ADE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0AC84-3E62-411F-87F2-6293458D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91214-6563-41E7-AEE2-88C543F9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1089F-D899-4871-AFA8-52A8FD62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510DC-75C9-4B6A-9E5D-CCF3E0AC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88FE-DA52-48B4-9694-F8953FCF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2B497-D480-4500-B2CF-FDFBD6C8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86126-94D2-4DB6-A8B8-AEC99CA7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E703E-7C29-4A7A-A8D8-201A83C5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6B1F3-7AE2-4EB2-B15E-F3590763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97E-20D4-4A1A-8452-784F9950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D40B3-2498-49F6-956C-6D6E9F68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5B830-76F8-4BFE-A4DB-FE9B8F29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B8B10-E42D-49F9-9C3F-A89698AC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7861B-3B65-428D-A37F-3023BC4B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1ACF1-E116-4308-8BC8-A0EF5258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BEA33-1174-4DC6-A35B-51A76CB9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C0FDF-044E-412B-9F9B-076D7003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FE105-6B3F-487E-925B-CA8421CB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A36FC-E428-4B51-9D48-E96AAB76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BF15B-0B28-4121-997E-243E4C03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BC3-2C1A-4EA7-BD56-7245169F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14AF2-2D66-40C0-ABFC-6F1BC39A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61CD6-B7BE-4A85-8682-B448636C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9A163-B0F1-4131-987C-7B747226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5ED8C-68BC-4487-9D77-0D31C489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58A16-ED07-493B-8821-86F2A709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4CF7E-DFFE-4B94-B125-509A8A84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7905C-EAD1-41F5-AFDB-4863BB4B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0AEBF-F602-4C9B-A6A0-F5C6F906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46115-744D-483C-8802-CBF0B78E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16C7F-5D65-46EC-A10D-027C9967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6736-3FD7-44CD-A79F-67B573C6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84877-1D24-4FE8-94E4-C8E33562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04B8B-D6D6-4097-A1A0-7FD7F136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0D48F-CD06-49C9-B7E5-B885E4E4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A1CCD-A78F-4B8E-A15D-ED4147E0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2D2DF-CF6C-4F8F-8CC2-BAE82D36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82F92-392C-4C1F-BAA3-F058F3DF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5F460-BF96-4C36-83FF-48EF4F6E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4075E-B971-4D37-9607-22B29D81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CA39A-0CA0-4093-A041-3BF6A65F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6A313-533D-4B04-98F8-F9E84F9D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EB60-377F-489C-880B-3FE3B772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055C3-39E9-4DD3-8625-A8DECA4C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09F7A-3A04-43B9-AA11-2BF415C2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9E7A3-E42B-4CA4-A088-C910978E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3C4D6-BC13-4377-A521-7D8F67BA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C9B57-14CA-4B40-B3C9-B3C39598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FB809-ACCB-48C6-A0CD-19F132FF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0238C-BF4F-4755-9427-AFF97E7D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03C1B-63F5-4D82-80A8-4C81F320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14C47-6CB1-4ABA-9078-93762150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0B67E-3E76-41C9-A92B-0B61E420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BA4-1B7D-450D-8076-D8FAB480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626B3-CBD6-4E9C-83B8-34DFEE55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FC0BF-C9EF-4DF7-B8E3-59CE9ED7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79758-DA42-4C4D-AA09-58188FD6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991CF-207E-4CC5-801E-87D26D04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43A28-7376-4C3C-90CA-3EE3EB72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7CD10-76B8-41F7-AECE-4AE04759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78F71-033C-4AE9-B9F6-90D8EE3E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8E551-B3B0-4577-AC36-86E7E090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9E871-0A82-482D-8DAB-56891D39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B9EF6-D861-4DB7-926D-B3A1B893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9D8C-8698-44CC-A080-650D16F6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2B4AC-DEB3-4CD7-813C-092501A9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896DB-4EC0-4939-9A15-433D69DA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96A3B-F24F-4480-A8AE-9E4541B9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15C28-B768-4E62-8000-DA32ADD7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FED55-BD63-480F-848A-AD35EFFA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E8F3A-C215-4A00-8162-D0A5D42C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57837-3AD6-4682-A0C7-13D2F8EF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AF06-99E5-48C4-BF56-8501C2701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C659-F03C-47B2-8FC2-1060FB664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034C-EBCF-4DCC-B495-6A5718FA52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98A6-7173-4FEC-BC83-3CDE26B3EB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9F94-136E-4107-9FC0-74B8B8418C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B961-431D-43A6-B0E6-B4472014CE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945D-9071-4E86-BAE6-BA3FD90D484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D77B-7348-4754-AAF6-CB6F33DD6B4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قياس الرسم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7160" y="512928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314172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1440" y="98100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76640" y="4476600"/>
            <a:ext cx="1656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782400">
            <a:off x="7188120" y="2134800"/>
            <a:ext cx="2303640" cy="1366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184560" y="38160"/>
            <a:ext cx="336384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Imprint MT Shadow"/>
                <a:cs typeface="mohammad bold art 1"/>
              </a:rPr>
              <a:t>مقياس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6360" y="1413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18920" y="1762200"/>
            <a:ext cx="3529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9280" y="1012680"/>
            <a:ext cx="51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26920" y="1844640"/>
            <a:ext cx="44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234936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hammad bold art 1"/>
              </a:rPr>
              <a:t>أمثل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9360" y="3151080"/>
            <a:ext cx="828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ا- رسمت منارة بمقياس رس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فكان ارتفاع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سم أوجد الارتفاع الحقيقي للمنا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27680" y="4449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95640" y="442764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88000" y="54561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47800" y="58374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3440" y="5846760"/>
            <a:ext cx="39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5138640"/>
            <a:ext cx="37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3618000"/>
            <a:ext cx="9144000" cy="32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44280"/>
            <a:ext cx="9144000" cy="32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67280" y="6021360"/>
            <a:ext cx="1439640" cy="69228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21520" y="3367080"/>
            <a:ext cx="1692360" cy="647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3520" y="57780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92840" y="205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308360" y="620640"/>
            <a:ext cx="11509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72360" y="2714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626920" y="620640"/>
            <a:ext cx="381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56000" y="52704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03600" y="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170028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66"/>
                </a:solidFill>
                <a:latin typeface="Arial"/>
                <a:cs typeface="mohammad bold art 1"/>
              </a:rPr>
              <a:t>الطول الحقيقي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51000" y="172260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8200" y="1720800"/>
            <a:ext cx="30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8600" y="242100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ت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56360" y="328464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ثال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0040" y="3902040"/>
            <a:ext cx="889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قيست المسافة بين مدينتين على خارطة فكانت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 وكانت المسافة الحقيقية بينهم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 اوجد مقياس رسم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3640" y="59500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4930920"/>
            <a:ext cx="9144000" cy="192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33880"/>
            <a:ext cx="914400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400" y="1546200"/>
            <a:ext cx="914400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0520"/>
            <a:ext cx="914400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823160" y="4756320"/>
            <a:ext cx="1258920" cy="792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88000" y="28908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68000" y="671400"/>
            <a:ext cx="4608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-6984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على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76360" y="58896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0280" y="1527120"/>
            <a:ext cx="167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435640" y="2133720"/>
            <a:ext cx="173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6000" y="18446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92720" y="2224080"/>
            <a:ext cx="1944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97480" y="1893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61440" y="2224080"/>
            <a:ext cx="4140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1484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-57240" y="211932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076480" y="1450800"/>
            <a:ext cx="1008000" cy="64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5892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76720" y="256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7480" y="2109960"/>
            <a:ext cx="86364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12000" y="3573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897200" y="4005360"/>
            <a:ext cx="3528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16360" y="3213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57160" y="3878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453440" y="4765680"/>
            <a:ext cx="169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مثال</a:t>
            </a: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272880" y="4699080"/>
            <a:ext cx="820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خارطة هو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: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فإذا كانت المسافة الحقيقية بين موقعين على الخارط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كم فكم تكون المسافة بينهم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0520" y="4365720"/>
            <a:ext cx="9144000" cy="24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360" y="299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400" y="155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400" y="20520"/>
            <a:ext cx="914400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11640" y="743040"/>
            <a:ext cx="1800360" cy="792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42920" y="1270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على الخارطة 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68720" y="7333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32360" y="170028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مقياس الرسم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42920" y="2141640"/>
            <a:ext cx="4548240" cy="12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1413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1280" y="200988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651640" y="3645000"/>
            <a:ext cx="341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8360" y="2852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4440" y="35593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6000" y="3284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0" y="224100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0520" y="3643200"/>
            <a:ext cx="40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673440"/>
            <a:ext cx="490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26080" y="4756320"/>
            <a:ext cx="45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0" y="5156280"/>
            <a:ext cx="485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4568760"/>
            <a:ext cx="51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51354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4360" y="60642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= 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19040" y="5549760"/>
            <a:ext cx="86425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33440" y="4425840"/>
            <a:ext cx="86421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3960" y="3213000"/>
            <a:ext cx="8642520" cy="11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620640"/>
            <a:ext cx="864252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51280" y="2811600"/>
            <a:ext cx="1368360" cy="647640"/>
          </a:xfrm>
          <a:prstGeom prst="ellipse">
            <a:avLst/>
          </a:prstGeom>
          <a:solidFill>
            <a:srgbClr val="ff505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41400"/>
            <a:ext cx="4978440" cy="765000"/>
          </a:xfrm>
          <a:prstGeom prst="rect">
            <a:avLst/>
          </a:prstGeom>
          <a:solidFill>
            <a:srgbClr val="00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43280" y="9540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حل تدريب (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) صفح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rabic Transparent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4360" y="466560"/>
            <a:ext cx="8137440" cy="3640680"/>
            <a:chOff x="684360" y="466560"/>
            <a:chExt cx="8137440" cy="3640680"/>
          </a:xfrm>
        </p:grpSpPr>
        <p:sp>
          <p:nvSpPr>
            <p:cNvPr id="689" name=""/>
            <p:cNvSpPr/>
            <p:nvPr/>
          </p:nvSpPr>
          <p:spPr>
            <a:xfrm>
              <a:off x="684360" y="661680"/>
              <a:ext cx="81374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قياس رسم خارطة هو             ما هو بعد موقعين على هذه الخارطة إذا كانت المسافة الحقيقية بينهما هي 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1000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تر ؟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27280" y="1114200"/>
              <a:ext cx="19447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67120" y="4665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 </a:t>
              </a: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89000" y="938160"/>
              <a:ext cx="252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66"/>
                  </a:solidFill>
                  <a:latin typeface="Bernard MT Condensed"/>
                </a:rPr>
                <a:t>50000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851280" y="2708280"/>
            <a:ext cx="136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00720" y="350028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5280" y="3890880"/>
            <a:ext cx="3745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7680" y="320364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74600" y="379872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435640" y="5075280"/>
            <a:ext cx="302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27640" y="442764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6000" y="4951440"/>
            <a:ext cx="22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7688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77720" y="50436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9640" y="4303800"/>
            <a:ext cx="402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2080" y="4919760"/>
            <a:ext cx="40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64000" y="571356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39720" y="6081840"/>
            <a:ext cx="4067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71640" y="60339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5425920"/>
            <a:ext cx="44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68360" y="620640"/>
            <a:ext cx="828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69228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nard MT Condensed"/>
              </a:rPr>
              <a:t> =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س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50920" y="2060640"/>
            <a:ext cx="5545440" cy="4797360"/>
          </a:xfrm>
          <a:prstGeom prst="flowChartMultidocumen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350028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ernard MT Condensed"/>
              </a:rPr>
              <a:t> و إلى اللق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80960" y="48690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Bernard MT Condensed"/>
              </a:rPr>
              <a:t>محمد السي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6:37:45Z</dcterms:created>
  <dc:creator>جهاز الطالب</dc:creator>
  <dc:description/>
  <dc:language>en-US</dc:language>
  <cp:lastModifiedBy>Windows XP</cp:lastModifiedBy>
  <dcterms:modified xsi:type="dcterms:W3CDTF">2007-06-16T21:55:26Z</dcterms:modified>
  <cp:revision>7</cp:revision>
  <dc:subject/>
  <dc:title>الشريحة 1</dc:title>
</cp:coreProperties>
</file>